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Rectangle 3"/>
          <p:cNvGraphicFramePr/>
          <p:nvPr/>
        </p:nvGraphicFramePr>
        <p:xfrm>
          <a:off x="0" y="1706400"/>
          <a:ext cx="9144000" cy="43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6400"/>
                    <a:ext cx="914400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utom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Ratio Automated/ Light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1280" y="1812960"/>
            <a:ext cx="8017920" cy="1007280"/>
            <a:chOff x="611280" y="1812960"/>
            <a:chExt cx="8017920" cy="1007280"/>
          </a:xfrm>
        </p:grpSpPr>
        <p:grpSp>
          <p:nvGrpSpPr>
            <p:cNvPr id="142" name=""/>
            <p:cNvGrpSpPr/>
            <p:nvPr/>
          </p:nvGrpSpPr>
          <p:grpSpPr>
            <a:xfrm>
              <a:off x="611280" y="1812960"/>
              <a:ext cx="7775640" cy="1007280"/>
              <a:chOff x="611280" y="1812960"/>
              <a:chExt cx="7775640" cy="1007280"/>
            </a:xfrm>
          </p:grpSpPr>
          <p:sp>
            <p:nvSpPr>
              <p:cNvPr id="143" name=""/>
              <p:cNvSpPr/>
              <p:nvPr/>
            </p:nvSpPr>
            <p:spPr>
              <a:xfrm>
                <a:off x="611280" y="2317680"/>
                <a:ext cx="75625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7795440" y="1812960"/>
                <a:ext cx="591480" cy="1007280"/>
                <a:chOff x="7795440" y="1812960"/>
                <a:chExt cx="591480" cy="1007280"/>
              </a:xfrm>
            </p:grpSpPr>
            <p:sp>
              <p:nvSpPr>
                <p:cNvPr id="145" name=""/>
                <p:cNvSpPr/>
                <p:nvPr/>
              </p:nvSpPr>
              <p:spPr>
                <a:xfrm rot="16200000">
                  <a:off x="7656840" y="1951200"/>
                  <a:ext cx="503280" cy="2264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520 h 226440"/>
                    <a:gd name="textAreaBottom" fmla="*/ 169920 h 22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 rot="5400000">
                  <a:off x="7657200" y="2455200"/>
                  <a:ext cx="502920" cy="2264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520 h 226440"/>
                    <a:gd name="textAreaBottom" fmla="*/ 169920 h 22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038800" y="195768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PT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037000" y="249408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PT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 rot="10800000">
              <a:off x="8385480" y="205308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82560" y="4511520"/>
            <a:ext cx="791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5120" y="429588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x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2133720"/>
            <a:ext cx="719280" cy="28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99120" y="4110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86760" y="22068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Rectangle 3"/>
          <p:cNvGraphicFramePr/>
          <p:nvPr/>
        </p:nvGraphicFramePr>
        <p:xfrm>
          <a:off x="0" y="2338560"/>
          <a:ext cx="9144000" cy="36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Remote contro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otal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504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9640" y="2602080"/>
            <a:ext cx="7997040" cy="1007280"/>
            <a:chOff x="539640" y="2602080"/>
            <a:chExt cx="7997040" cy="1007280"/>
          </a:xfrm>
        </p:grpSpPr>
        <p:grpSp>
          <p:nvGrpSpPr>
            <p:cNvPr id="160" name=""/>
            <p:cNvGrpSpPr/>
            <p:nvPr/>
          </p:nvGrpSpPr>
          <p:grpSpPr>
            <a:xfrm>
              <a:off x="539640" y="2602080"/>
              <a:ext cx="7752600" cy="1007280"/>
              <a:chOff x="539640" y="2602080"/>
              <a:chExt cx="7752600" cy="1007280"/>
            </a:xfrm>
          </p:grpSpPr>
          <p:sp>
            <p:nvSpPr>
              <p:cNvPr id="161" name=""/>
              <p:cNvSpPr/>
              <p:nvPr/>
            </p:nvSpPr>
            <p:spPr>
              <a:xfrm>
                <a:off x="539640" y="3106800"/>
                <a:ext cx="754056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702920" y="2602080"/>
                <a:ext cx="589320" cy="1007280"/>
                <a:chOff x="7702920" y="2602080"/>
                <a:chExt cx="589320" cy="1007280"/>
              </a:xfrm>
            </p:grpSpPr>
            <p:sp>
              <p:nvSpPr>
                <p:cNvPr id="163" name=""/>
                <p:cNvSpPr/>
                <p:nvPr/>
              </p:nvSpPr>
              <p:spPr>
                <a:xfrm rot="16200000">
                  <a:off x="7564320" y="2740680"/>
                  <a:ext cx="503280" cy="22608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520 h 226080"/>
                    <a:gd name="textAreaBottom" fmla="*/ 169560 h 226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 rot="5400000">
                  <a:off x="7564320" y="3244320"/>
                  <a:ext cx="502920" cy="22608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520 h 226080"/>
                    <a:gd name="textAreaBottom" fmla="*/ 169560 h 226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44120" y="274680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942320" y="328320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 rot="10800000">
              <a:off x="8292960" y="284004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Rectangle 3"/>
          <p:cNvGraphicFramePr/>
          <p:nvPr/>
        </p:nvGraphicFramePr>
        <p:xfrm>
          <a:off x="0" y="1563840"/>
          <a:ext cx="9144000" cy="43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63840"/>
                    <a:ext cx="91440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Remote contro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Ratio Remote controlled / Light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11280" y="1708200"/>
            <a:ext cx="7982640" cy="1007280"/>
            <a:chOff x="611280" y="1708200"/>
            <a:chExt cx="7982640" cy="1007280"/>
          </a:xfrm>
        </p:grpSpPr>
        <p:grpSp>
          <p:nvGrpSpPr>
            <p:cNvPr id="173" name=""/>
            <p:cNvGrpSpPr/>
            <p:nvPr/>
          </p:nvGrpSpPr>
          <p:grpSpPr>
            <a:xfrm>
              <a:off x="611280" y="1708200"/>
              <a:ext cx="7738200" cy="1007280"/>
              <a:chOff x="611280" y="1708200"/>
              <a:chExt cx="7738200" cy="1007280"/>
            </a:xfrm>
          </p:grpSpPr>
          <p:sp>
            <p:nvSpPr>
              <p:cNvPr id="174" name=""/>
              <p:cNvSpPr/>
              <p:nvPr/>
            </p:nvSpPr>
            <p:spPr>
              <a:xfrm>
                <a:off x="611280" y="2212920"/>
                <a:ext cx="752688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7761600" y="1708200"/>
                <a:ext cx="587880" cy="1007280"/>
                <a:chOff x="7761600" y="1708200"/>
                <a:chExt cx="587880" cy="1007280"/>
              </a:xfrm>
            </p:grpSpPr>
            <p:sp>
              <p:nvSpPr>
                <p:cNvPr id="176" name=""/>
                <p:cNvSpPr/>
                <p:nvPr/>
              </p:nvSpPr>
              <p:spPr>
                <a:xfrm rot="16200000">
                  <a:off x="7622640" y="1847160"/>
                  <a:ext cx="503280" cy="225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 rot="5400000">
                  <a:off x="7622640" y="2350800"/>
                  <a:ext cx="502920" cy="225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160 h 225360"/>
                    <a:gd name="textAreaBottom" fmla="*/ 169200 h 225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001360" y="185292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99560" y="238932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 rot="10800000">
              <a:off x="8350200" y="194616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Lighthouses rat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250920" y="1084320"/>
          <a:ext cx="889308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84320"/>
                    <a:ext cx="889308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Lighthouses indi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Rectangle 3"/>
          <p:cNvGraphicFramePr/>
          <p:nvPr/>
        </p:nvGraphicFramePr>
        <p:xfrm>
          <a:off x="-1189080" y="1392120"/>
          <a:ext cx="12169800" cy="54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9080" y="1392120"/>
                    <a:ext cx="1216980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Rectangle 3"/>
          <p:cNvGraphicFramePr/>
          <p:nvPr/>
        </p:nvGraphicFramePr>
        <p:xfrm>
          <a:off x="-324000" y="1060560"/>
          <a:ext cx="9541080" cy="55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060560"/>
                    <a:ext cx="954108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Lighthouses indi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985080" y="3645000"/>
            <a:ext cx="28728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84720" y="2708280"/>
            <a:ext cx="287280" cy="25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6360" y="37893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5600" y="2886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2000" y="2421000"/>
            <a:ext cx="2446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affed lighthouses &gt; light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708360" y="2565360"/>
            <a:ext cx="50328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2637000"/>
            <a:ext cx="43344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2060640"/>
          <a:ext cx="932508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93250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- Light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174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3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7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4360" y="2374920"/>
            <a:ext cx="7906320" cy="1007280"/>
            <a:chOff x="684360" y="2374920"/>
            <a:chExt cx="7906320" cy="1007280"/>
          </a:xfrm>
        </p:grpSpPr>
        <p:sp>
          <p:nvSpPr>
            <p:cNvPr id="54" name=""/>
            <p:cNvSpPr/>
            <p:nvPr/>
          </p:nvSpPr>
          <p:spPr>
            <a:xfrm>
              <a:off x="684360" y="2879640"/>
              <a:ext cx="76899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7989480" y="2374920"/>
              <a:ext cx="601200" cy="1007280"/>
              <a:chOff x="7989480" y="2374920"/>
              <a:chExt cx="601200" cy="1007280"/>
            </a:xfrm>
          </p:grpSpPr>
          <p:sp>
            <p:nvSpPr>
              <p:cNvPr id="56" name=""/>
              <p:cNvSpPr/>
              <p:nvPr/>
            </p:nvSpPr>
            <p:spPr>
              <a:xfrm rot="16200000">
                <a:off x="7853040" y="2511360"/>
                <a:ext cx="503280" cy="230400"/>
              </a:xfrm>
              <a:custGeom>
                <a:avLst/>
                <a:gdLst>
                  <a:gd name="textAreaLeft" fmla="*/ 78480 w 503280"/>
                  <a:gd name="textAreaRight" fmla="*/ 440640 w 503280"/>
                  <a:gd name="textAreaTop" fmla="*/ 57600 h 230400"/>
                  <a:gd name="textAreaBottom" fmla="*/ 172800 h 23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 rot="5400000">
                <a:off x="7853040" y="3015000"/>
                <a:ext cx="502920" cy="230400"/>
              </a:xfrm>
              <a:custGeom>
                <a:avLst/>
                <a:gdLst>
                  <a:gd name="textAreaLeft" fmla="*/ 78480 w 502920"/>
                  <a:gd name="textAreaRight" fmla="*/ 440280 w 502920"/>
                  <a:gd name="textAreaTop" fmla="*/ 57600 h 230400"/>
                  <a:gd name="textAreaBottom" fmla="*/ 172800 h 23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2560" y="251964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o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0400" y="305604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 rot="10800000">
            <a:off x="8604000" y="2565360"/>
            <a:ext cx="243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Rectangle 3"/>
          <p:cNvGraphicFramePr/>
          <p:nvPr/>
        </p:nvGraphicFramePr>
        <p:xfrm>
          <a:off x="0" y="2320920"/>
          <a:ext cx="9144000" cy="39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20920"/>
                    <a:ext cx="914400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Staffed light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otal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88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68360" y="3219480"/>
            <a:ext cx="7920360" cy="1007280"/>
            <a:chOff x="468360" y="3219480"/>
            <a:chExt cx="7920360" cy="1007280"/>
          </a:xfrm>
        </p:grpSpPr>
        <p:sp>
          <p:nvSpPr>
            <p:cNvPr id="66" name=""/>
            <p:cNvSpPr/>
            <p:nvPr/>
          </p:nvSpPr>
          <p:spPr>
            <a:xfrm>
              <a:off x="468360" y="3724200"/>
              <a:ext cx="77040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786800" y="3219480"/>
              <a:ext cx="601920" cy="1007280"/>
              <a:chOff x="7786800" y="3219480"/>
              <a:chExt cx="601920" cy="1007280"/>
            </a:xfrm>
          </p:grpSpPr>
          <p:sp>
            <p:nvSpPr>
              <p:cNvPr id="68" name=""/>
              <p:cNvSpPr/>
              <p:nvPr/>
            </p:nvSpPr>
            <p:spPr>
              <a:xfrm rot="16200000">
                <a:off x="7650360" y="3355560"/>
                <a:ext cx="503280" cy="230760"/>
              </a:xfrm>
              <a:custGeom>
                <a:avLst/>
                <a:gdLst>
                  <a:gd name="textAreaLeft" fmla="*/ 78480 w 503280"/>
                  <a:gd name="textAreaRight" fmla="*/ 440640 w 503280"/>
                  <a:gd name="textAreaTop" fmla="*/ 57600 h 230760"/>
                  <a:gd name="textAreaBottom" fmla="*/ 173160 h 23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5400000">
                <a:off x="7650720" y="3859560"/>
                <a:ext cx="502920" cy="230760"/>
              </a:xfrm>
              <a:custGeom>
                <a:avLst/>
                <a:gdLst>
                  <a:gd name="textAreaLeft" fmla="*/ 78480 w 502920"/>
                  <a:gd name="textAreaRight" fmla="*/ 440280 w 502920"/>
                  <a:gd name="textAreaTop" fmla="*/ 57600 h 230760"/>
                  <a:gd name="textAreaBottom" fmla="*/ 173160 h 23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40600" y="33642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38440" y="390060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 rot="10800000">
            <a:off x="8430840" y="3475080"/>
            <a:ext cx="243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Rectangle 3"/>
          <p:cNvGraphicFramePr/>
          <p:nvPr/>
        </p:nvGraphicFramePr>
        <p:xfrm>
          <a:off x="0" y="1792440"/>
          <a:ext cx="9144000" cy="43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2440"/>
                    <a:ext cx="914400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Staffed lightho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Ratio Staffed lighthouses / Light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9640" y="1963800"/>
            <a:ext cx="7993800" cy="1007280"/>
            <a:chOff x="539640" y="1963800"/>
            <a:chExt cx="7993800" cy="1007280"/>
          </a:xfrm>
        </p:grpSpPr>
        <p:sp>
          <p:nvSpPr>
            <p:cNvPr id="78" name=""/>
            <p:cNvSpPr/>
            <p:nvPr/>
          </p:nvSpPr>
          <p:spPr>
            <a:xfrm>
              <a:off x="539640" y="2468520"/>
              <a:ext cx="77752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7925760" y="1963800"/>
              <a:ext cx="607680" cy="1007280"/>
              <a:chOff x="7925760" y="1963800"/>
              <a:chExt cx="607680" cy="1007280"/>
            </a:xfrm>
          </p:grpSpPr>
          <p:sp>
            <p:nvSpPr>
              <p:cNvPr id="80" name=""/>
              <p:cNvSpPr/>
              <p:nvPr/>
            </p:nvSpPr>
            <p:spPr>
              <a:xfrm rot="16200000">
                <a:off x="7790400" y="2098800"/>
                <a:ext cx="503280" cy="232920"/>
              </a:xfrm>
              <a:custGeom>
                <a:avLst/>
                <a:gdLst>
                  <a:gd name="textAreaLeft" fmla="*/ 78480 w 503280"/>
                  <a:gd name="textAreaRight" fmla="*/ 440640 w 503280"/>
                  <a:gd name="textAreaTop" fmla="*/ 58320 h 232920"/>
                  <a:gd name="textAreaBottom" fmla="*/ 174960 h 23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5400000">
                <a:off x="7790760" y="2602800"/>
                <a:ext cx="502920" cy="232920"/>
              </a:xfrm>
              <a:custGeom>
                <a:avLst/>
                <a:gdLst>
                  <a:gd name="textAreaLeft" fmla="*/ 78480 w 502920"/>
                  <a:gd name="textAreaRight" fmla="*/ 440280 w 502920"/>
                  <a:gd name="textAreaTop" fmla="*/ 57960 h 232920"/>
                  <a:gd name="textAreaBottom" fmla="*/ 174600 h 23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85320" y="210852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o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82800" y="264492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0800000">
            <a:off x="8604000" y="2133720"/>
            <a:ext cx="243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2249640"/>
          <a:ext cx="9756720" cy="36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49640"/>
                    <a:ext cx="975672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Lightkee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otal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969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360" y="2529000"/>
            <a:ext cx="8563680" cy="1007280"/>
            <a:chOff x="468360" y="2529000"/>
            <a:chExt cx="8563680" cy="1007280"/>
          </a:xfrm>
        </p:grpSpPr>
        <p:grpSp>
          <p:nvGrpSpPr>
            <p:cNvPr id="90" name=""/>
            <p:cNvGrpSpPr/>
            <p:nvPr/>
          </p:nvGrpSpPr>
          <p:grpSpPr>
            <a:xfrm>
              <a:off x="468360" y="2529000"/>
              <a:ext cx="8239320" cy="1007280"/>
              <a:chOff x="468360" y="2529000"/>
              <a:chExt cx="8239320" cy="1007280"/>
            </a:xfrm>
          </p:grpSpPr>
          <p:sp>
            <p:nvSpPr>
              <p:cNvPr id="91" name=""/>
              <p:cNvSpPr/>
              <p:nvPr/>
            </p:nvSpPr>
            <p:spPr>
              <a:xfrm>
                <a:off x="468360" y="3033720"/>
                <a:ext cx="80143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8081640" y="2529000"/>
                <a:ext cx="626040" cy="1007280"/>
                <a:chOff x="8081640" y="2529000"/>
                <a:chExt cx="626040" cy="1007280"/>
              </a:xfrm>
            </p:grpSpPr>
            <p:sp>
              <p:nvSpPr>
                <p:cNvPr id="93" name=""/>
                <p:cNvSpPr/>
                <p:nvPr/>
              </p:nvSpPr>
              <p:spPr>
                <a:xfrm rot="16200000">
                  <a:off x="7949880" y="2660400"/>
                  <a:ext cx="503280" cy="24012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60120 h 240120"/>
                    <a:gd name="textAreaBottom" fmla="*/ 180360 h 24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 rot="5400000">
                  <a:off x="7950240" y="3164400"/>
                  <a:ext cx="502920" cy="24012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9760 h 240120"/>
                    <a:gd name="textAreaBottom" fmla="*/ 180000 h 24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359560" y="267372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355960" y="321012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 rot="10800000">
              <a:off x="8788320" y="273060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Lightkee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Ratio Lightkeepers / Light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9640" y="1801800"/>
            <a:ext cx="8295120" cy="1007280"/>
            <a:chOff x="539640" y="1801800"/>
            <a:chExt cx="8295120" cy="1007280"/>
          </a:xfrm>
        </p:grpSpPr>
        <p:grpSp>
          <p:nvGrpSpPr>
            <p:cNvPr id="101" name=""/>
            <p:cNvGrpSpPr/>
            <p:nvPr/>
          </p:nvGrpSpPr>
          <p:grpSpPr>
            <a:xfrm>
              <a:off x="539640" y="1801800"/>
              <a:ext cx="7961760" cy="1007280"/>
              <a:chOff x="539640" y="1801800"/>
              <a:chExt cx="7961760" cy="1007280"/>
            </a:xfrm>
          </p:grpSpPr>
          <p:sp>
            <p:nvSpPr>
              <p:cNvPr id="102" name=""/>
              <p:cNvSpPr/>
              <p:nvPr/>
            </p:nvSpPr>
            <p:spPr>
              <a:xfrm>
                <a:off x="539640" y="2306520"/>
                <a:ext cx="77443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7896600" y="1801800"/>
                <a:ext cx="604800" cy="1007280"/>
                <a:chOff x="7896600" y="1801800"/>
                <a:chExt cx="604800" cy="1007280"/>
              </a:xfrm>
            </p:grpSpPr>
            <p:sp>
              <p:nvSpPr>
                <p:cNvPr id="104" name=""/>
                <p:cNvSpPr/>
                <p:nvPr/>
              </p:nvSpPr>
              <p:spPr>
                <a:xfrm rot="16200000">
                  <a:off x="7760880" y="1937520"/>
                  <a:ext cx="503280" cy="2318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7960 h 231840"/>
                    <a:gd name="textAreaBottom" fmla="*/ 173880 h 23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 rot="5400000">
                  <a:off x="7760880" y="2441160"/>
                  <a:ext cx="502920" cy="2318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7960 h 231840"/>
                    <a:gd name="textAreaBottom" fmla="*/ 173880 h 231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153280" y="194652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151840" y="248292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"/>
            <p:cNvSpPr/>
            <p:nvPr/>
          </p:nvSpPr>
          <p:spPr>
            <a:xfrm rot="10800000">
              <a:off x="8591040" y="203832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" name="Rectangle 3"/>
          <p:cNvGraphicFramePr/>
          <p:nvPr/>
        </p:nvGraphicFramePr>
        <p:xfrm>
          <a:off x="0" y="1773360"/>
          <a:ext cx="9144000" cy="43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-108000" y="2309760"/>
          <a:ext cx="9144000" cy="33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2309760"/>
                    <a:ext cx="9144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utom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otal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791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More 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ast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Future trend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5280" y="3019320"/>
            <a:ext cx="8741520" cy="1007280"/>
            <a:chOff x="395280" y="3019320"/>
            <a:chExt cx="8741520" cy="1007280"/>
          </a:xfrm>
        </p:grpSpPr>
        <p:grpSp>
          <p:nvGrpSpPr>
            <p:cNvPr id="116" name=""/>
            <p:cNvGrpSpPr/>
            <p:nvPr/>
          </p:nvGrpSpPr>
          <p:grpSpPr>
            <a:xfrm>
              <a:off x="395280" y="3019320"/>
              <a:ext cx="8491680" cy="1007280"/>
              <a:chOff x="395280" y="3019320"/>
              <a:chExt cx="8491680" cy="1007280"/>
            </a:xfrm>
          </p:grpSpPr>
          <p:sp>
            <p:nvSpPr>
              <p:cNvPr id="117" name=""/>
              <p:cNvSpPr/>
              <p:nvPr/>
            </p:nvSpPr>
            <p:spPr>
              <a:xfrm>
                <a:off x="395280" y="3524040"/>
                <a:ext cx="82598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8241840" y="3019320"/>
                <a:ext cx="645120" cy="1007280"/>
                <a:chOff x="8241840" y="3019320"/>
                <a:chExt cx="645120" cy="1007280"/>
              </a:xfrm>
            </p:grpSpPr>
            <p:sp>
              <p:nvSpPr>
                <p:cNvPr id="119" name=""/>
                <p:cNvSpPr/>
                <p:nvPr/>
              </p:nvSpPr>
              <p:spPr>
                <a:xfrm rot="16200000">
                  <a:off x="8113680" y="3147120"/>
                  <a:ext cx="503280" cy="24732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61920 h 247320"/>
                    <a:gd name="textAreaBottom" fmla="*/ 185760 h 247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 rot="5400000">
                  <a:off x="8114040" y="3651120"/>
                  <a:ext cx="502920" cy="24732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61560 h 247320"/>
                    <a:gd name="textAreaBottom" fmla="*/ 185400 h 247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538840" y="316404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534880" y="370044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 rot="10800000">
              <a:off x="8893080" y="325728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Rectangle 3"/>
          <p:cNvGraphicFramePr/>
          <p:nvPr/>
        </p:nvGraphicFramePr>
        <p:xfrm>
          <a:off x="0" y="1706400"/>
          <a:ext cx="9144000" cy="43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6400"/>
                    <a:ext cx="914400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Autom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Ratio Automated/ Light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269064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11280" y="1812960"/>
            <a:ext cx="8017920" cy="1007280"/>
            <a:chOff x="611280" y="1812960"/>
            <a:chExt cx="8017920" cy="1007280"/>
          </a:xfrm>
        </p:grpSpPr>
        <p:grpSp>
          <p:nvGrpSpPr>
            <p:cNvPr id="129" name=""/>
            <p:cNvGrpSpPr/>
            <p:nvPr/>
          </p:nvGrpSpPr>
          <p:grpSpPr>
            <a:xfrm>
              <a:off x="611280" y="1812960"/>
              <a:ext cx="7775640" cy="1007280"/>
              <a:chOff x="611280" y="1812960"/>
              <a:chExt cx="7775640" cy="1007280"/>
            </a:xfrm>
          </p:grpSpPr>
          <p:sp>
            <p:nvSpPr>
              <p:cNvPr id="130" name=""/>
              <p:cNvSpPr/>
              <p:nvPr/>
            </p:nvSpPr>
            <p:spPr>
              <a:xfrm>
                <a:off x="611280" y="2317680"/>
                <a:ext cx="75625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795440" y="1812960"/>
                <a:ext cx="591480" cy="1007280"/>
                <a:chOff x="7795440" y="1812960"/>
                <a:chExt cx="591480" cy="100728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656840" y="1951200"/>
                  <a:ext cx="503280" cy="22644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6520 h 226440"/>
                    <a:gd name="textAreaBottom" fmla="*/ 169920 h 22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 rot="5400000">
                  <a:off x="7657200" y="2455200"/>
                  <a:ext cx="502920" cy="22644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6520 h 226440"/>
                    <a:gd name="textAreaBottom" fmla="*/ 169920 h 226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038800" y="195768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037000" y="249408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 rot="10800000">
              <a:off x="8385480" y="205308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3:59Z</dcterms:modified>
  <cp:revision>36</cp:revision>
  <dc:subject/>
  <dc:title>Slide 1</dc:title>
</cp:coreProperties>
</file>